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9AFD-3CE5-4989-B4AA-AF8D1DDA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65F0-3E85-474B-8DB4-D84EB17A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1D71-234D-4A09-A48F-C3EC433F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8B8C-3E6E-4418-A2F6-C3495DAF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4AFC-D6A3-46C4-96CB-5A0B5248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CB3E-6CF8-42A5-BC7A-A8E218C6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4793-5AA2-48C0-AA55-1D5703E5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A89-C30F-4D65-BAC7-23BE5724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5DCD-2978-4DCB-B6F6-BAB06F11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676C-FDD8-4360-AC31-98726B41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E439-2DB6-43E9-9895-84FF6DD9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0BAD-1378-4768-9C80-397F3ED7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4536-51A6-47FE-996B-5B33D94FE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MORE                                CRAIGMORE                               CRAIGMORE                                DUNOON  ARGYLL                        DUNOON  ARGYLL                           DUNOON  ARGYLL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T  MATILDA                             GOUROCK                                        GOUROCK                                           GOUROCK                                GOUROCK  100TH                         GOUROCK  PARK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6483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UROCK  PARK                        GOUROCK  PARK                     GOUROCK  PARK  50TH                     GOUROCK  PARK  75TH             GREENOCK  VICTORIA                    GREENOCK  VICTORI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244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OSVENOR                                 GROSVENOR                                  GROSVENOR                                       GROSVENOR                          GROSVENOR  150TH                                    HILLEND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13240" y="333360"/>
            <a:ext cx="111600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97600" y="33336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193240" y="333360"/>
            <a:ext cx="100620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608880" y="404640"/>
            <a:ext cx="969840" cy="924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31800" y="2060640"/>
            <a:ext cx="106056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2073240" y="1844640"/>
            <a:ext cx="987480" cy="1193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3584520" y="1773360"/>
            <a:ext cx="987480" cy="125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168880" y="1773360"/>
            <a:ext cx="987480" cy="126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608880" y="1557360"/>
            <a:ext cx="1133280" cy="1522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8121600" y="2205000"/>
            <a:ext cx="1001880" cy="858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31800" y="3500280"/>
            <a:ext cx="1023840" cy="1133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5168880" y="3500280"/>
            <a:ext cx="1060560" cy="1157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6537240" y="3284640"/>
            <a:ext cx="1262160" cy="1376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8121600" y="3357720"/>
            <a:ext cx="1206720" cy="1325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31800" y="5445000"/>
            <a:ext cx="1023840" cy="887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2073240" y="5013360"/>
            <a:ext cx="1096920" cy="1352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3584520" y="5084640"/>
            <a:ext cx="1006560" cy="1266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8265960" y="530064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5168880" y="5084640"/>
            <a:ext cx="1060560" cy="1279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2000160" y="3500280"/>
            <a:ext cx="1096920" cy="1157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2144880" y="333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6608880" y="5013360"/>
            <a:ext cx="1177920" cy="133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704880" y="404640"/>
            <a:ext cx="1023840" cy="924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3513240" y="3284640"/>
            <a:ext cx="123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1:24:07Z</dcterms:created>
  <dc:creator>JOHN YOUNG</dc:creator>
  <dc:description/>
  <dc:language>en-US</dc:language>
  <cp:lastModifiedBy>JY</cp:lastModifiedBy>
  <cp:lastPrinted>2000-05-09T17:32:06Z</cp:lastPrinted>
  <dcterms:modified xsi:type="dcterms:W3CDTF">2007-10-19T13:49:31Z</dcterms:modified>
  <cp:revision>35</cp:revision>
  <dc:subject/>
  <dc:title>No Slide Title</dc:title>
</cp:coreProperties>
</file>